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14BBBF56-0807-457F-9C9C-9188E60362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500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905040" y="749160"/>
            <a:ext cx="49370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000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TTÜ 2007        T.Tammet     IT sissejuhatus loeng 10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50009E8A-EA55-479D-96EF-E2A8B3B37F19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ibm.com/" TargetMode="Externa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4400" y="298080"/>
            <a:ext cx="7772400" cy="314280"/>
            <a:chOff x="914400" y="298080"/>
            <a:chExt cx="7772400" cy="314280"/>
          </a:xfrm>
        </p:grpSpPr>
        <p:sp>
          <p:nvSpPr>
            <p:cNvPr id="52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685360" y="29808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28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8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8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9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9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9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30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0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1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1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105520" y="3041640"/>
            <a:ext cx="30456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349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352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356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360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364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368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372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76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80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84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10080" y="2050560"/>
            <a:ext cx="381240" cy="2415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418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21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25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29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433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437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441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445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449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453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488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91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95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99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503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07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11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15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19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23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6416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56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56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56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57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57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7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8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8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9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9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36056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6318360" y="2203200"/>
            <a:ext cx="241200" cy="1307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176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634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637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641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645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649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653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657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661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665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669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6344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6318360" y="2203200"/>
            <a:ext cx="241200" cy="1307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708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711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715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719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723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727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731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735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739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743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572000" y="2889000"/>
            <a:ext cx="53352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3733920" y="3422160"/>
            <a:ext cx="6858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708160" y="2355840"/>
            <a:ext cx="146052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36020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34120" y="2050920"/>
            <a:ext cx="45720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väikeseid tekstijup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ekstijupi ette pannakse lisainfo (päis ehk header), mis ütleb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hu see tekst siis saata tuleb (IP aadres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t  tekst tuli (saatja IP aadres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lisainfot ka v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78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143000" y="3809880"/>
            <a:ext cx="6019920" cy="685800"/>
            <a:chOff x="1143000" y="3809880"/>
            <a:chExt cx="6019920" cy="685800"/>
          </a:xfrm>
        </p:grpSpPr>
        <p:sp>
          <p:nvSpPr>
            <p:cNvPr id="784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isutekst (data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sisendpuhver on täis, siis ignoreeri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ga datagrammi käsitletakse sõltumatu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792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funktsion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võrgunduse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interneti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asmehhanismi, IP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57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UDP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(user datagram protocol). Ei kontrollita, kas info jõudis pära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CP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transfer control protocol). Toimub kontroll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79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838080" y="2895480"/>
            <a:ext cx="6019920" cy="685800"/>
            <a:chOff x="838080" y="2895480"/>
            <a:chExt cx="6019920" cy="685800"/>
          </a:xfrm>
        </p:grpSpPr>
        <p:sp>
          <p:nvSpPr>
            <p:cNvPr id="801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209680" y="4876920"/>
            <a:ext cx="4648320" cy="761760"/>
            <a:chOff x="2209680" y="4876920"/>
            <a:chExt cx="4648320" cy="761760"/>
          </a:xfrm>
        </p:grpSpPr>
        <p:sp>
          <p:nvSpPr>
            <p:cNvPr id="805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12320" y="3962520"/>
            <a:ext cx="4159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aldab omakorda päisega inf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ähte- ja sihtport (kumbki kaks baiti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atagrammi pikkus (kaks baiti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(kaks baiti, pole kohustuslik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osa (varieeruva pikkusega hulk baite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984240" y="3200400"/>
            <a:ext cx="393840" cy="762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agab voo segment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tes käivitab taimeri ja ootab kinnitu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nnitab saadud segmen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päisest ja andmete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rastab segmentide järjest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ustab dublikaa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ib voo maht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61840" y="13456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838080" y="3429000"/>
            <a:ext cx="2667240" cy="2743200"/>
            <a:chOff x="838080" y="3429000"/>
            <a:chExt cx="2667240" cy="2743200"/>
          </a:xfrm>
        </p:grpSpPr>
        <p:sp>
          <p:nvSpPr>
            <p:cNvPr id="819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191120" y="3505320"/>
            <a:ext cx="304560" cy="304560"/>
            <a:chOff x="4191120" y="3505320"/>
            <a:chExt cx="304560" cy="304560"/>
          </a:xfrm>
        </p:grpSpPr>
        <p:sp>
          <p:nvSpPr>
            <p:cNvPr id="823" name=""/>
            <p:cNvSpPr/>
            <p:nvPr/>
          </p:nvSpPr>
          <p:spPr>
            <a:xfrm>
              <a:off x="4191120" y="3505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35400" y="3549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191120" y="4343400"/>
            <a:ext cx="304560" cy="380880"/>
            <a:chOff x="4191120" y="4343400"/>
            <a:chExt cx="304560" cy="380880"/>
          </a:xfrm>
        </p:grpSpPr>
        <p:sp>
          <p:nvSpPr>
            <p:cNvPr id="826" name=""/>
            <p:cNvSpPr/>
            <p:nvPr/>
          </p:nvSpPr>
          <p:spPr>
            <a:xfrm>
              <a:off x="4191120" y="4343400"/>
              <a:ext cx="304560" cy="3808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35400" y="4398840"/>
              <a:ext cx="214200" cy="26856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68560"/>
                <a:gd name="textAreaBottom" fmla="*/ 268200 h 268560"/>
              </a:gdLst>
              <a:ahLst/>
              <a:rect l="textAreaLeft" t="textAreaTop" r="textAreaRight" b="textAreaBottom"/>
              <a:pathLst>
                <a:path w="21600" h="27072">
                  <a:moveTo>
                    <a:pt x="161" y="0"/>
                  </a:moveTo>
                  <a:arcTo wR="161" hR="161" stAng="16200000" swAng="-5400000"/>
                  <a:lnTo>
                    <a:pt x="0" y="26911"/>
                  </a:lnTo>
                  <a:arcTo wR="161" hR="161" stAng="10800000" swAng="-5400000"/>
                  <a:lnTo>
                    <a:pt x="21439" y="27072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191120" y="5791320"/>
            <a:ext cx="304560" cy="304560"/>
            <a:chOff x="4191120" y="5791320"/>
            <a:chExt cx="304560" cy="304560"/>
          </a:xfrm>
        </p:grpSpPr>
        <p:sp>
          <p:nvSpPr>
            <p:cNvPr id="829" name=""/>
            <p:cNvSpPr/>
            <p:nvPr/>
          </p:nvSpPr>
          <p:spPr>
            <a:xfrm>
              <a:off x="4191120" y="5791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35400" y="5835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791320" y="3429000"/>
            <a:ext cx="304560" cy="304920"/>
            <a:chOff x="5791320" y="3429000"/>
            <a:chExt cx="304560" cy="304920"/>
          </a:xfrm>
        </p:grpSpPr>
        <p:sp>
          <p:nvSpPr>
            <p:cNvPr id="832" name=""/>
            <p:cNvSpPr/>
            <p:nvPr/>
          </p:nvSpPr>
          <p:spPr>
            <a:xfrm>
              <a:off x="5791320" y="3429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35600" y="3473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715000" y="4267080"/>
            <a:ext cx="304920" cy="304920"/>
            <a:chOff x="5715000" y="4267080"/>
            <a:chExt cx="304920" cy="304920"/>
          </a:xfrm>
        </p:grpSpPr>
        <p:sp>
          <p:nvSpPr>
            <p:cNvPr id="835" name=""/>
            <p:cNvSpPr/>
            <p:nvPr/>
          </p:nvSpPr>
          <p:spPr>
            <a:xfrm>
              <a:off x="5715000" y="4267080"/>
              <a:ext cx="30492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759280" y="4311720"/>
              <a:ext cx="216000" cy="21600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791320" y="5715000"/>
            <a:ext cx="304560" cy="304920"/>
            <a:chOff x="5791320" y="5715000"/>
            <a:chExt cx="304560" cy="304920"/>
          </a:xfrm>
        </p:grpSpPr>
        <p:sp>
          <p:nvSpPr>
            <p:cNvPr id="838" name=""/>
            <p:cNvSpPr/>
            <p:nvPr/>
          </p:nvSpPr>
          <p:spPr>
            <a:xfrm>
              <a:off x="5791320" y="5715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35600" y="5759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flipH="1">
            <a:off x="3498840" y="3657600"/>
            <a:ext cx="69840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422520" y="4572000"/>
            <a:ext cx="77472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3498840" y="5860800"/>
            <a:ext cx="698400" cy="889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2286000" y="3727440"/>
            <a:ext cx="1219320" cy="1231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2133720" y="4565160"/>
            <a:ext cx="1295280" cy="622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1905120" y="4946400"/>
            <a:ext cx="1752480" cy="546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6466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4489200" y="3657600"/>
            <a:ext cx="130788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4413240" y="3727080"/>
            <a:ext cx="1231920" cy="6224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4565160" y="5867280"/>
            <a:ext cx="115596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51240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 - 1023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tuntud pordid, s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1       FTP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3       telnet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17     UD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024 – 5000      klientprogrammide ajutised por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5000                muud (mitte-üldtuntud) serve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25480" y="1468080"/>
            <a:ext cx="784872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ootab mingil üldteada pordil ühenduskuts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reserveerib dünaamilise por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saadab serverile ühenduskutse (koos oma pordinumbriga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vastab kliendile tema pordinumbr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ta vastu uut kutset enne eelneva töötl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2979720" y="1676520"/>
          <a:ext cx="35449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676520"/>
                    <a:ext cx="3544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4435560" y="2354400"/>
          <a:ext cx="421632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2354400"/>
                    <a:ext cx="421632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2265480" y="1889280"/>
          <a:ext cx="467028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1889280"/>
                    <a:ext cx="467028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okollipered (internet ja mõned muud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1646280" y="1676520"/>
          <a:ext cx="6232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76520"/>
                    <a:ext cx="6232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2209680" y="1066680"/>
          <a:ext cx="457200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066680"/>
                    <a:ext cx="4572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 flipH="1" flipV="1">
            <a:off x="6775200" y="2813040"/>
            <a:ext cx="927000" cy="698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392960" y="3505320"/>
            <a:ext cx="121932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a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kol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27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62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2132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64920" y="3276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33680" y="1981080"/>
            <a:ext cx="1044720" cy="368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276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412880" y="2209680"/>
            <a:ext cx="191772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3716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58360" y="4724280"/>
            <a:ext cx="5459040" cy="1490760"/>
            <a:chOff x="558360" y="4724280"/>
            <a:chExt cx="5459040" cy="1490760"/>
          </a:xfrm>
        </p:grpSpPr>
        <p:sp>
          <p:nvSpPr>
            <p:cNvPr id="74" name=""/>
            <p:cNvSpPr/>
            <p:nvPr/>
          </p:nvSpPr>
          <p:spPr>
            <a:xfrm>
              <a:off x="609480" y="4724280"/>
              <a:ext cx="5315040" cy="149076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836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882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885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888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891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894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897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900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903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906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09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12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066680" y="4032000"/>
            <a:ext cx="838440" cy="13078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312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3193920" y="3498840"/>
            <a:ext cx="393840" cy="3938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410080" y="3575160"/>
            <a:ext cx="381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629400" y="2355840"/>
            <a:ext cx="38088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6013080" y="2355840"/>
            <a:ext cx="165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2126880" y="2279520"/>
            <a:ext cx="1652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895480" y="2355840"/>
            <a:ext cx="1800" cy="241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3429000" y="2279520"/>
            <a:ext cx="30492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4648320" y="4641840"/>
            <a:ext cx="144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48320" y="5479560"/>
            <a:ext cx="1440" cy="165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6622920" y="5334120"/>
            <a:ext cx="85104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09480" y="2279160"/>
            <a:ext cx="609840" cy="622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3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935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346200" y="2584080"/>
            <a:ext cx="3289320" cy="1384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3228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Mozilla, Ie, Konqueror, ..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telnet ühenduse masina deepthought.ttu.ee porti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pime sisse, seejärel tipime kaks reavahet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/it/index.html HTTP/1.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1905120"/>
            <a:ext cx="228600" cy="2361960"/>
          </a:xfrm>
          <a:custGeom>
            <a:avLst/>
            <a:gdLst/>
            <a:ahLst/>
            <a:rect l="l" t="t" r="r" b="b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308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80880" y="4717800"/>
            <a:ext cx="457200" cy="546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001000" y="4952880"/>
            <a:ext cx="609480" cy="1371600"/>
          </a:xfrm>
          <a:custGeom>
            <a:avLst/>
            <a:gdLst/>
            <a:ahLst/>
            <a:rect l="l" t="t" r="r" b="b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19000" y="411480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dasi HTTP suunas: 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cnn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5276880" y="1066680"/>
            <a:ext cx="3173400" cy="5181840"/>
            <a:chOff x="5276880" y="1066680"/>
            <a:chExt cx="3173400" cy="5181840"/>
          </a:xfrm>
        </p:grpSpPr>
        <p:sp>
          <p:nvSpPr>
            <p:cNvPr id="955" name=""/>
            <p:cNvSpPr/>
            <p:nvPr/>
          </p:nvSpPr>
          <p:spPr>
            <a:xfrm>
              <a:off x="5276880" y="2971800"/>
              <a:ext cx="3173400" cy="3276720"/>
            </a:xfrm>
            <a:custGeom>
              <a:avLst/>
              <a:gdLst/>
              <a:ahLst/>
              <a:rect l="l" t="t" r="r" b="b"/>
              <a:pathLst>
                <a:path w="8813" h="9103">
                  <a:moveTo>
                    <a:pt x="1157" y="0"/>
                  </a:moveTo>
                  <a:lnTo>
                    <a:pt x="0" y="1554"/>
                  </a:lnTo>
                  <a:lnTo>
                    <a:pt x="926" y="3329"/>
                  </a:lnTo>
                  <a:lnTo>
                    <a:pt x="1157" y="5327"/>
                  </a:lnTo>
                  <a:lnTo>
                    <a:pt x="926" y="6437"/>
                  </a:lnTo>
                  <a:lnTo>
                    <a:pt x="463" y="7325"/>
                  </a:lnTo>
                  <a:lnTo>
                    <a:pt x="463" y="8213"/>
                  </a:lnTo>
                  <a:lnTo>
                    <a:pt x="2083" y="9102"/>
                  </a:lnTo>
                  <a:lnTo>
                    <a:pt x="3935" y="8879"/>
                  </a:lnTo>
                  <a:lnTo>
                    <a:pt x="5787" y="7991"/>
                  </a:lnTo>
                  <a:cubicBezTo>
                    <a:pt x="6096" y="7917"/>
                    <a:pt x="6419" y="7885"/>
                    <a:pt x="6713" y="7769"/>
                  </a:cubicBezTo>
                  <a:cubicBezTo>
                    <a:pt x="6762" y="7751"/>
                    <a:pt x="6713" y="7668"/>
                    <a:pt x="6737" y="7626"/>
                  </a:cubicBezTo>
                  <a:cubicBezTo>
                    <a:pt x="6819" y="7487"/>
                    <a:pt x="7022" y="7237"/>
                    <a:pt x="7157" y="7117"/>
                  </a:cubicBezTo>
                  <a:cubicBezTo>
                    <a:pt x="7244" y="6867"/>
                    <a:pt x="7162" y="6932"/>
                    <a:pt x="7311" y="6858"/>
                  </a:cubicBezTo>
                  <a:lnTo>
                    <a:pt x="8334" y="5549"/>
                  </a:lnTo>
                  <a:lnTo>
                    <a:pt x="8797" y="4439"/>
                  </a:lnTo>
                  <a:cubicBezTo>
                    <a:pt x="8768" y="3856"/>
                    <a:pt x="8812" y="3824"/>
                    <a:pt x="8643" y="3426"/>
                  </a:cubicBezTo>
                  <a:cubicBezTo>
                    <a:pt x="8614" y="3357"/>
                    <a:pt x="8599" y="3278"/>
                    <a:pt x="8566" y="3209"/>
                  </a:cubicBezTo>
                  <a:cubicBezTo>
                    <a:pt x="8527" y="3130"/>
                    <a:pt x="8416" y="2991"/>
                    <a:pt x="8416" y="2991"/>
                  </a:cubicBezTo>
                  <a:lnTo>
                    <a:pt x="6250" y="888"/>
                  </a:lnTo>
                  <a:lnTo>
                    <a:pt x="4166" y="444"/>
                  </a:lnTo>
                  <a:lnTo>
                    <a:pt x="3009" y="222"/>
                  </a:lnTo>
                  <a:lnTo>
                    <a:pt x="1620" y="0"/>
                  </a:lnTo>
                  <a:lnTo>
                    <a:pt x="1157" y="0"/>
                  </a:lnTo>
                  <a:lnTo>
                    <a:pt x="1157" y="0"/>
                  </a:lnTo>
                </a:path>
              </a:pathLst>
            </a:custGeom>
            <a:solidFill>
              <a:srgbClr val="00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779880" y="1066680"/>
              <a:ext cx="127872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o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6819480" y="1447920"/>
              <a:ext cx="50652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684840" y="3124080"/>
            <a:ext cx="2214720" cy="1752840"/>
            <a:chOff x="6684840" y="3124080"/>
            <a:chExt cx="2214720" cy="1752840"/>
          </a:xfrm>
        </p:grpSpPr>
        <p:sp>
          <p:nvSpPr>
            <p:cNvPr id="959" name=""/>
            <p:cNvSpPr/>
            <p:nvPr/>
          </p:nvSpPr>
          <p:spPr>
            <a:xfrm>
              <a:off x="6684840" y="3886200"/>
              <a:ext cx="1266840" cy="990720"/>
            </a:xfrm>
            <a:custGeom>
              <a:avLst/>
              <a:gdLst/>
              <a:ahLst/>
              <a:rect l="l" t="t" r="r" b="b"/>
              <a:pathLst>
                <a:path w="3520" h="2753">
                  <a:moveTo>
                    <a:pt x="977" y="211"/>
                  </a:moveTo>
                  <a:lnTo>
                    <a:pt x="0" y="1057"/>
                  </a:lnTo>
                  <a:lnTo>
                    <a:pt x="195" y="1904"/>
                  </a:lnTo>
                  <a:lnTo>
                    <a:pt x="391" y="2116"/>
                  </a:lnTo>
                  <a:lnTo>
                    <a:pt x="586" y="2328"/>
                  </a:lnTo>
                  <a:lnTo>
                    <a:pt x="1563" y="2540"/>
                  </a:lnTo>
                  <a:lnTo>
                    <a:pt x="2150" y="2752"/>
                  </a:lnTo>
                  <a:lnTo>
                    <a:pt x="2737" y="2540"/>
                  </a:lnTo>
                  <a:lnTo>
                    <a:pt x="3127" y="2540"/>
                  </a:lnTo>
                  <a:lnTo>
                    <a:pt x="3323" y="2116"/>
                  </a:lnTo>
                  <a:lnTo>
                    <a:pt x="3519" y="1269"/>
                  </a:lnTo>
                  <a:lnTo>
                    <a:pt x="3127" y="634"/>
                  </a:lnTo>
                  <a:lnTo>
                    <a:pt x="2932" y="211"/>
                  </a:lnTo>
                  <a:lnTo>
                    <a:pt x="2150" y="0"/>
                  </a:lnTo>
                  <a:lnTo>
                    <a:pt x="1563" y="0"/>
                  </a:lnTo>
                  <a:lnTo>
                    <a:pt x="977" y="211"/>
                  </a:lnTo>
                  <a:lnTo>
                    <a:pt x="977" y="211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86600" y="3124080"/>
              <a:ext cx="91296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z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7593120" y="3581280"/>
              <a:ext cx="71568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 DNS 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953000" y="2590920"/>
            <a:ext cx="1851840" cy="993600"/>
            <a:chOff x="1953000" y="2590920"/>
            <a:chExt cx="1851840" cy="993600"/>
          </a:xfrm>
        </p:grpSpPr>
        <p:sp>
          <p:nvSpPr>
            <p:cNvPr id="964" name=""/>
            <p:cNvSpPr/>
            <p:nvPr/>
          </p:nvSpPr>
          <p:spPr>
            <a:xfrm flipH="1">
              <a:off x="2947680" y="2590920"/>
              <a:ext cx="857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53000" y="3124080"/>
              <a:ext cx="153792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583080" y="2590920"/>
            <a:ext cx="1216080" cy="1146240"/>
            <a:chOff x="3583080" y="2590920"/>
            <a:chExt cx="1216080" cy="1146240"/>
          </a:xfrm>
        </p:grpSpPr>
        <p:sp>
          <p:nvSpPr>
            <p:cNvPr id="967" name=""/>
            <p:cNvSpPr/>
            <p:nvPr/>
          </p:nvSpPr>
          <p:spPr>
            <a:xfrm>
              <a:off x="3798720" y="2590920"/>
              <a:ext cx="352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583080" y="32767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303120" y="3581280"/>
            <a:ext cx="2376720" cy="841680"/>
            <a:chOff x="303120" y="3581280"/>
            <a:chExt cx="2376720" cy="841680"/>
          </a:xfrm>
        </p:grpSpPr>
        <p:sp>
          <p:nvSpPr>
            <p:cNvPr id="970" name=""/>
            <p:cNvSpPr/>
            <p:nvPr/>
          </p:nvSpPr>
          <p:spPr>
            <a:xfrm flipH="1">
              <a:off x="1611360" y="3581280"/>
              <a:ext cx="10684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3120" y="3962520"/>
              <a:ext cx="21564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>
            <a:off x="696960" y="4495680"/>
            <a:ext cx="4348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195560" y="4419720"/>
            <a:ext cx="3498840" cy="1527120"/>
            <a:chOff x="1195560" y="4419720"/>
            <a:chExt cx="3498840" cy="1527120"/>
          </a:xfrm>
        </p:grpSpPr>
        <p:sp>
          <p:nvSpPr>
            <p:cNvPr id="974" name=""/>
            <p:cNvSpPr/>
            <p:nvPr/>
          </p:nvSpPr>
          <p:spPr>
            <a:xfrm>
              <a:off x="1612800" y="5486400"/>
              <a:ext cx="3081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ke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195560" y="4419720"/>
              <a:ext cx="56340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266840" y="4419720"/>
            <a:ext cx="3727800" cy="993600"/>
            <a:chOff x="1266840" y="4419720"/>
            <a:chExt cx="3727800" cy="993600"/>
          </a:xfrm>
        </p:grpSpPr>
        <p:sp>
          <p:nvSpPr>
            <p:cNvPr id="977" name=""/>
            <p:cNvSpPr/>
            <p:nvPr/>
          </p:nvSpPr>
          <p:spPr>
            <a:xfrm>
              <a:off x="1963440" y="4952880"/>
              <a:ext cx="30312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lber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66840" y="44197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2033280" y="5943600"/>
            <a:ext cx="217800" cy="304920"/>
            <a:chOff x="2033280" y="5943600"/>
            <a:chExt cx="217800" cy="304920"/>
          </a:xfrm>
        </p:grpSpPr>
        <p:sp>
          <p:nvSpPr>
            <p:cNvPr id="980" name=""/>
            <p:cNvSpPr/>
            <p:nvPr/>
          </p:nvSpPr>
          <p:spPr>
            <a:xfrm flipH="1">
              <a:off x="2033280" y="5943600"/>
              <a:ext cx="824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09960" y="5943600"/>
              <a:ext cx="141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838840" y="3581280"/>
            <a:ext cx="1521000" cy="1603440"/>
            <a:chOff x="5838840" y="3581280"/>
            <a:chExt cx="1521000" cy="1603440"/>
          </a:xfrm>
        </p:grpSpPr>
        <p:sp>
          <p:nvSpPr>
            <p:cNvPr id="983" name=""/>
            <p:cNvSpPr/>
            <p:nvPr/>
          </p:nvSpPr>
          <p:spPr>
            <a:xfrm>
              <a:off x="5981760" y="3581280"/>
              <a:ext cx="35244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38840" y="4724280"/>
              <a:ext cx="15210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x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557680" y="3505320"/>
            <a:ext cx="1758960" cy="2064600"/>
            <a:chOff x="5557680" y="3505320"/>
            <a:chExt cx="1758960" cy="2064600"/>
          </a:xfrm>
        </p:grpSpPr>
        <p:sp>
          <p:nvSpPr>
            <p:cNvPr id="986" name=""/>
            <p:cNvSpPr/>
            <p:nvPr/>
          </p:nvSpPr>
          <p:spPr>
            <a:xfrm flipH="1">
              <a:off x="5832360" y="3505320"/>
              <a:ext cx="8280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57680" y="5110200"/>
              <a:ext cx="17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c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051600" y="3505320"/>
            <a:ext cx="1859040" cy="1146240"/>
            <a:chOff x="6051600" y="3505320"/>
            <a:chExt cx="1859040" cy="1146240"/>
          </a:xfrm>
        </p:grpSpPr>
        <p:sp>
          <p:nvSpPr>
            <p:cNvPr id="989" name=""/>
            <p:cNvSpPr/>
            <p:nvPr/>
          </p:nvSpPr>
          <p:spPr>
            <a:xfrm>
              <a:off x="6694560" y="41911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t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1600" y="3505320"/>
              <a:ext cx="1195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3798720" y="2590920"/>
            <a:ext cx="2672280" cy="917640"/>
            <a:chOff x="3798720" y="2590920"/>
            <a:chExt cx="2672280" cy="917640"/>
          </a:xfrm>
        </p:grpSpPr>
        <p:sp>
          <p:nvSpPr>
            <p:cNvPr id="992" name=""/>
            <p:cNvSpPr/>
            <p:nvPr/>
          </p:nvSpPr>
          <p:spPr>
            <a:xfrm>
              <a:off x="3798720" y="2590920"/>
              <a:ext cx="2041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92520" y="3048120"/>
              <a:ext cx="9784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562920" y="1523880"/>
            <a:ext cx="1016640" cy="1070280"/>
            <a:chOff x="3562920" y="1523880"/>
            <a:chExt cx="1016640" cy="1070280"/>
          </a:xfrm>
        </p:grpSpPr>
        <p:sp>
          <p:nvSpPr>
            <p:cNvPr id="995" name=""/>
            <p:cNvSpPr/>
            <p:nvPr/>
          </p:nvSpPr>
          <p:spPr>
            <a:xfrm>
              <a:off x="3562920" y="2133720"/>
              <a:ext cx="631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3933360" y="1523880"/>
              <a:ext cx="646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4573440" y="1523880"/>
            <a:ext cx="1668240" cy="1070280"/>
            <a:chOff x="4573440" y="1523880"/>
            <a:chExt cx="1668240" cy="1070280"/>
          </a:xfrm>
        </p:grpSpPr>
        <p:sp>
          <p:nvSpPr>
            <p:cNvPr id="998" name=""/>
            <p:cNvSpPr/>
            <p:nvPr/>
          </p:nvSpPr>
          <p:spPr>
            <a:xfrm>
              <a:off x="5458320" y="2133720"/>
              <a:ext cx="7833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3440" y="1523880"/>
              <a:ext cx="1266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191280" y="2362320"/>
            <a:ext cx="1407960" cy="533160"/>
            <a:chOff x="6191280" y="2362320"/>
            <a:chExt cx="1407960" cy="533160"/>
          </a:xfrm>
        </p:grpSpPr>
        <p:sp>
          <p:nvSpPr>
            <p:cNvPr id="1001" name=""/>
            <p:cNvSpPr/>
            <p:nvPr/>
          </p:nvSpPr>
          <p:spPr>
            <a:xfrm>
              <a:off x="6191280" y="2362320"/>
              <a:ext cx="1407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191280" y="2438280"/>
              <a:ext cx="1266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3429360" y="3733920"/>
            <a:ext cx="2293560" cy="1222200"/>
            <a:chOff x="3429360" y="3733920"/>
            <a:chExt cx="2293560" cy="1222200"/>
          </a:xfrm>
        </p:grpSpPr>
        <p:sp>
          <p:nvSpPr>
            <p:cNvPr id="1004" name=""/>
            <p:cNvSpPr/>
            <p:nvPr/>
          </p:nvSpPr>
          <p:spPr>
            <a:xfrm>
              <a:off x="3429360" y="4495680"/>
              <a:ext cx="22935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nick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81320" y="3733920"/>
              <a:ext cx="492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658960" y="3733920"/>
            <a:ext cx="1749600" cy="841320"/>
            <a:chOff x="2658960" y="3733920"/>
            <a:chExt cx="1749600" cy="841320"/>
          </a:xfrm>
        </p:grpSpPr>
        <p:sp>
          <p:nvSpPr>
            <p:cNvPr id="1007" name=""/>
            <p:cNvSpPr/>
            <p:nvPr/>
          </p:nvSpPr>
          <p:spPr>
            <a:xfrm>
              <a:off x="2658960" y="4114800"/>
              <a:ext cx="1749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op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652920" y="3733920"/>
              <a:ext cx="434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4424760" y="1066680"/>
            <a:ext cx="257760" cy="460440"/>
          </a:xfrm>
          <a:custGeom>
            <a:avLst/>
            <a:gdLst>
              <a:gd name="textAreaLeft" fmla="*/ 360 w 257760"/>
              <a:gd name="textAreaRight" fmla="*/ 257400 w 2577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38561">
                <a:moveTo>
                  <a:pt x="142" y="0"/>
                </a:moveTo>
                <a:arcTo wR="142" hR="142" stAng="16200000" swAng="-5400000"/>
                <a:lnTo>
                  <a:pt x="0" y="38419"/>
                </a:lnTo>
                <a:arcTo wR="142" hR="142" stAng="10800000" swAng="-5400000"/>
                <a:lnTo>
                  <a:pt x="21458" y="38561"/>
                </a:lnTo>
                <a:arcTo wR="142" hR="142" stAng="5400000" swAng="-5400000"/>
                <a:lnTo>
                  <a:pt x="21600" y="142"/>
                </a:lnTo>
                <a:arcTo wR="142" hR="1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 fill="hold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 fill="hold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Process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56920" y="1541160"/>
            <a:ext cx="3848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Host xyz.iitb.ernet.in wants IP address of www.ibm.co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tacts its local DNS server, dns.i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.iitb.ernet.in contacts root name server, if necessary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oot name server sends the the authoritative name server address to local name server if necessary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Char char="•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asks the authoritative name server dns.ibm.com for the IP address of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ibm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nd gets i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-3747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sends the IP address to the host xyz.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47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2" name=""/>
          <p:cNvSpPr/>
          <p:nvPr/>
        </p:nvSpPr>
        <p:spPr>
          <a:xfrm>
            <a:off x="4195080" y="4648320"/>
            <a:ext cx="225396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z.iitb.ernet.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08600" y="4844880"/>
            <a:ext cx="152244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ww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5265720" y="2570040"/>
            <a:ext cx="376200" cy="657360"/>
            <a:chOff x="5265720" y="2570040"/>
            <a:chExt cx="376200" cy="657360"/>
          </a:xfrm>
        </p:grpSpPr>
        <p:sp>
          <p:nvSpPr>
            <p:cNvPr id="1015" name=""/>
            <p:cNvSpPr/>
            <p:nvPr/>
          </p:nvSpPr>
          <p:spPr>
            <a:xfrm>
              <a:off x="5265720" y="3075120"/>
              <a:ext cx="370080" cy="15228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52920" y="257508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267160" y="2717640"/>
              <a:ext cx="235080" cy="50508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46371">
                  <a:moveTo>
                    <a:pt x="145" y="0"/>
                  </a:moveTo>
                  <a:arcTo wR="145" hR="145" stAng="16200000" swAng="-5400000"/>
                  <a:lnTo>
                    <a:pt x="0" y="46226"/>
                  </a:lnTo>
                  <a:arcTo wR="145" hR="145" stAng="10800000" swAng="-5400000"/>
                  <a:lnTo>
                    <a:pt x="21455" y="463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265720" y="2570040"/>
              <a:ext cx="370080" cy="15264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5800" y="2581200"/>
              <a:ext cx="144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5495760" y="3075120"/>
              <a:ext cx="146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297400" y="2784600"/>
              <a:ext cx="155520" cy="29196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1960"/>
                <a:gd name="textAreaBottom" fmla="*/ 291600 h 291960"/>
              </a:gdLst>
              <a:ahLst/>
              <a:rect l="textAreaLeft" t="textAreaTop" r="textAreaRight" b="textAreaBottom"/>
              <a:pathLst>
                <a:path w="21600" h="40506">
                  <a:moveTo>
                    <a:pt x="220" y="0"/>
                  </a:moveTo>
                  <a:arcTo wR="220" hR="220" stAng="16200000" swAng="-5400000"/>
                  <a:lnTo>
                    <a:pt x="0" y="40286"/>
                  </a:lnTo>
                  <a:arcTo wR="220" hR="220" stAng="10800000" swAng="-5400000"/>
                  <a:lnTo>
                    <a:pt x="21380" y="4050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319720" y="2871720"/>
              <a:ext cx="11916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5791320" y="736560"/>
            <a:ext cx="20113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518880" y="3408480"/>
            <a:ext cx="2653200" cy="5738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ns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315040" y="3250800"/>
            <a:ext cx="1440" cy="1327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5429160" y="1555920"/>
            <a:ext cx="914400" cy="98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6813720" y="1565280"/>
            <a:ext cx="660240" cy="946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613480" y="1771560"/>
            <a:ext cx="7459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4315680" y="3384720"/>
            <a:ext cx="2253960" cy="604080"/>
            <a:chOff x="4315680" y="3384720"/>
            <a:chExt cx="2253960" cy="604080"/>
          </a:xfrm>
        </p:grpSpPr>
        <p:sp>
          <p:nvSpPr>
            <p:cNvPr id="1032" name=""/>
            <p:cNvSpPr/>
            <p:nvPr/>
          </p:nvSpPr>
          <p:spPr>
            <a:xfrm>
              <a:off x="4505400" y="3457440"/>
              <a:ext cx="1876320" cy="476280"/>
            </a:xfrm>
            <a:prstGeom prst="roundRect">
              <a:avLst>
                <a:gd name="adj" fmla="val 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15680" y="3384720"/>
              <a:ext cx="2253960" cy="60408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ns.iitb.ernet.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028480" y="41133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7136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714360" y="2027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09560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942880" y="2103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62000" y="4151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6380280" y="1150920"/>
            <a:ext cx="376200" cy="657360"/>
            <a:chOff x="6380280" y="1150920"/>
            <a:chExt cx="376200" cy="657360"/>
          </a:xfrm>
        </p:grpSpPr>
        <p:sp>
          <p:nvSpPr>
            <p:cNvPr id="1041" name=""/>
            <p:cNvSpPr/>
            <p:nvPr/>
          </p:nvSpPr>
          <p:spPr>
            <a:xfrm>
              <a:off x="6380280" y="1655640"/>
              <a:ext cx="369720" cy="15264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567480" y="1155600"/>
              <a:ext cx="169920" cy="50508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64115">
                  <a:moveTo>
                    <a:pt x="203" y="0"/>
                  </a:moveTo>
                  <a:arcTo wR="203" hR="203" stAng="16200000" swAng="-5400000"/>
                  <a:lnTo>
                    <a:pt x="0" y="63912"/>
                  </a:lnTo>
                  <a:arcTo wR="203" hR="203" stAng="10800000" swAng="-5400000"/>
                  <a:lnTo>
                    <a:pt x="21397" y="64115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81720" y="129852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380280" y="115092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750000" y="1162080"/>
              <a:ext cx="18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610320" y="1655640"/>
              <a:ext cx="146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11960" y="1365120"/>
              <a:ext cx="155520" cy="2923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2320"/>
                <a:gd name="textAreaBottom" fmla="*/ 291960 h 292320"/>
              </a:gdLst>
              <a:ahLst/>
              <a:rect l="textAreaLeft" t="textAreaTop" r="textAreaRight" b="textAreaBottom"/>
              <a:pathLst>
                <a:path w="21600" h="40556">
                  <a:moveTo>
                    <a:pt x="220" y="0"/>
                  </a:moveTo>
                  <a:arcTo wR="220" hR="220" stAng="16200000" swAng="-5400000"/>
                  <a:lnTo>
                    <a:pt x="0" y="40336"/>
                  </a:lnTo>
                  <a:arcTo wR="220" hR="220" stAng="10800000" swAng="-5400000"/>
                  <a:lnTo>
                    <a:pt x="21380" y="4055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34280" y="1452600"/>
              <a:ext cx="11880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7209000" y="2579760"/>
            <a:ext cx="376200" cy="657000"/>
            <a:chOff x="7209000" y="2579760"/>
            <a:chExt cx="376200" cy="657000"/>
          </a:xfrm>
        </p:grpSpPr>
        <p:sp>
          <p:nvSpPr>
            <p:cNvPr id="1050" name=""/>
            <p:cNvSpPr/>
            <p:nvPr/>
          </p:nvSpPr>
          <p:spPr>
            <a:xfrm>
              <a:off x="7209000" y="308448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96200" y="258444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210440" y="272736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209000" y="257976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78720" y="2590920"/>
              <a:ext cx="144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7439040" y="3084480"/>
              <a:ext cx="146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40680" y="2793960"/>
              <a:ext cx="155520" cy="2905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0520"/>
                <a:gd name="textAreaBottom" fmla="*/ 290160 h 290520"/>
              </a:gdLst>
              <a:ahLst/>
              <a:rect l="textAreaLeft" t="textAreaTop" r="textAreaRight" b="textAreaBottom"/>
              <a:pathLst>
                <a:path w="21600" h="40307">
                  <a:moveTo>
                    <a:pt x="220" y="0"/>
                  </a:moveTo>
                  <a:arcTo wR="220" hR="220" stAng="16200000" swAng="-5400000"/>
                  <a:lnTo>
                    <a:pt x="0" y="40087"/>
                  </a:lnTo>
                  <a:arcTo wR="220" hR="220" stAng="10800000" swAng="-5400000"/>
                  <a:lnTo>
                    <a:pt x="21380" y="40307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62640" y="2881440"/>
              <a:ext cx="11916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391520" y="4038480"/>
            <a:ext cx="936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 näitel (klient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välja faile serverarvutist ja veidi lisainfi (HTTP päi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asub TCP pordil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% telnet deepthought.ttu.ee 8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takse nimeserverilt “deepthought.ttu.ee” IP aadre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server teeb DNS protokolliga rekursiivse otsin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tulemuse 193.40.254.17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loob TCP ühend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erveeritakse kohalik TCP po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etakse serverile TCP ühenduse avamise kut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lnet saadab päringu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TCP paketti sisaldav IP data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 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rsruutimistabelist selgub, et tuleb kasutada vaikimisi marsruutimisreeglit (Näiteks: 192.168.0.1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RP abil tehakse kindlaks selle Etherneti aadres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üldlevi aadressil küsimus 192.168.0.1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akse vastus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Etherneti kaader aadressil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odatakse kuni Etherneti võrk on vab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kaader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2.168.0.1-s ja teistes marsruuterites korratakse marsruutimisprotseduu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IP kiht annab datagrammi andmeosa edasi TCP kih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TCP kiht annab pordi numbri järgi andmeosa edasi http serveri-programm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 töötleb päringu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saadab vastuse ja lõpetab TCP ühend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dub protseduur läbi TCP, IP ja Etherne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on traadiga ühenduses mitme eri arvutiga (X, Z, U, ...) siis kuidas saata nimelt soovitud arvutisse (meie näites X) oma info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info hulk on väga suur (näiteks 700 MB), kas saaks seda üksikute väiksemate tükkidena sa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kontrollida, kas tükid jõudsid päral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ha, kui mõni tükk kaduma läh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arvuti X tükid õieti kokku oskab pann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79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 pere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590920" y="1447920"/>
          <a:ext cx="39700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39700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EU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Extended User Interf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ab kohtvõrgu liikluses TCP+I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Optimiseeritud väikeste kohtvõrkude jao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Kiir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Hea veakindl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ole marsruud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alju liiklust üldaadress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(Network Basic Input/Output System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seansi ja datagrammi tüüpi ühend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ub nimeteen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sina nimi kuni 15 tähte, hierarhiat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etodid nime teisendamiseks IP aadressik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b WINS serverilt (nimede ja IP aadrsside andmebaas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mine üldlevi aadress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MHOSTS ja HOSTS fa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 pärin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84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38280" y="2971800"/>
            <a:ext cx="300240" cy="304920"/>
            <a:chOff x="2438280" y="2971800"/>
            <a:chExt cx="300240" cy="304920"/>
          </a:xfrm>
        </p:grpSpPr>
        <p:sp>
          <p:nvSpPr>
            <p:cNvPr id="87" name=""/>
            <p:cNvSpPr/>
            <p:nvPr/>
          </p:nvSpPr>
          <p:spPr>
            <a:xfrm>
              <a:off x="2438280" y="29718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8280" y="29718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4000" y="29718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438280" y="1905120"/>
            <a:ext cx="300240" cy="304560"/>
            <a:chOff x="2438280" y="1905120"/>
            <a:chExt cx="300240" cy="304560"/>
          </a:xfrm>
        </p:grpSpPr>
        <p:sp>
          <p:nvSpPr>
            <p:cNvPr id="91" name=""/>
            <p:cNvSpPr/>
            <p:nvPr/>
          </p:nvSpPr>
          <p:spPr>
            <a:xfrm>
              <a:off x="2438280" y="19051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19051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000" y="19051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038480" y="2362320"/>
            <a:ext cx="300240" cy="304560"/>
            <a:chOff x="4038480" y="2362320"/>
            <a:chExt cx="300240" cy="304560"/>
          </a:xfrm>
        </p:grpSpPr>
        <p:sp>
          <p:nvSpPr>
            <p:cNvPr id="95" name=""/>
            <p:cNvSpPr/>
            <p:nvPr/>
          </p:nvSpPr>
          <p:spPr>
            <a:xfrm>
              <a:off x="4038480" y="2362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2362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64200" y="2362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15000" y="2895480"/>
            <a:ext cx="299880" cy="304920"/>
            <a:chOff x="5715000" y="2895480"/>
            <a:chExt cx="299880" cy="304920"/>
          </a:xfrm>
        </p:grpSpPr>
        <p:sp>
          <p:nvSpPr>
            <p:cNvPr id="99" name=""/>
            <p:cNvSpPr/>
            <p:nvPr/>
          </p:nvSpPr>
          <p:spPr>
            <a:xfrm>
              <a:off x="5715000" y="2895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2895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0360" y="2895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962520" y="1295280"/>
            <a:ext cx="299880" cy="304920"/>
            <a:chOff x="3962520" y="1295280"/>
            <a:chExt cx="299880" cy="304920"/>
          </a:xfrm>
        </p:grpSpPr>
        <p:sp>
          <p:nvSpPr>
            <p:cNvPr id="103" name=""/>
            <p:cNvSpPr/>
            <p:nvPr/>
          </p:nvSpPr>
          <p:spPr>
            <a:xfrm>
              <a:off x="3962520" y="1295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1295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87880" y="1295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038480" y="3505320"/>
            <a:ext cx="300240" cy="304560"/>
            <a:chOff x="4038480" y="3505320"/>
            <a:chExt cx="300240" cy="304560"/>
          </a:xfrm>
        </p:grpSpPr>
        <p:sp>
          <p:nvSpPr>
            <p:cNvPr id="107" name=""/>
            <p:cNvSpPr/>
            <p:nvPr/>
          </p:nvSpPr>
          <p:spPr>
            <a:xfrm>
              <a:off x="4038480" y="3505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38480" y="3505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420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11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V="1">
            <a:off x="2743200" y="2507760"/>
            <a:ext cx="129528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1523880"/>
            <a:ext cx="18622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343400" y="1898280"/>
            <a:ext cx="15238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2660400"/>
            <a:ext cx="144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336560" y="2507760"/>
            <a:ext cx="146052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736720" y="2050920"/>
            <a:ext cx="13082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1593720"/>
            <a:ext cx="144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5720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lihts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, ühendab kõik kok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556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5120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496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arilik etherneti paket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131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814320"/>
            <a:ext cx="7315200" cy="558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137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140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144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148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152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156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160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164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168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72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657600" y="3422160"/>
            <a:ext cx="9144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800600" y="2889000"/>
            <a:ext cx="304920" cy="393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34120" y="1974960"/>
            <a:ext cx="457200" cy="317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38280" y="5562720"/>
            <a:ext cx="4648320" cy="679320"/>
            <a:chOff x="2438280" y="5562720"/>
            <a:chExt cx="4648320" cy="679320"/>
          </a:xfrm>
        </p:grpSpPr>
        <p:sp>
          <p:nvSpPr>
            <p:cNvPr id="201" name=""/>
            <p:cNvSpPr/>
            <p:nvPr/>
          </p:nvSpPr>
          <p:spPr>
            <a:xfrm>
              <a:off x="2438280" y="5562720"/>
              <a:ext cx="4648320" cy="67932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38280" y="5562720"/>
              <a:ext cx="46483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 on ümbriku see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mbriku peal on saaja aadress (ja tagaküljel ka saatja aadress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-arvutid on nagu postkontorid ja sorteerimispunk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did on nagu veomasinad, mis posti kontorite vahel veav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etid saadetakse eraldi, igalühel aadress pea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38080" y="374400"/>
            <a:ext cx="7770960" cy="314280"/>
            <a:chOff x="838080" y="374400"/>
            <a:chExt cx="7770960" cy="314280"/>
          </a:xfrm>
        </p:grpSpPr>
        <p:sp>
          <p:nvSpPr>
            <p:cNvPr id="206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607600" y="3744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603000"/>
            <a:ext cx="7772400" cy="314280"/>
            <a:chOff x="838080" y="603000"/>
            <a:chExt cx="7772400" cy="314280"/>
          </a:xfrm>
        </p:grpSpPr>
        <p:sp>
          <p:nvSpPr>
            <p:cNvPr id="21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609040" y="60300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1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1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2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2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3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23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23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24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24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088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657600" y="3422160"/>
            <a:ext cx="914400" cy="88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</dc:title>
</cp:coreProperties>
</file>